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ilabre fatimata" initials="pf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5-06-01T09:41:51.001000000" idx="1">
    <p:pos x="10" y="10"/>
    <p:text/>
  </p:cm>
  <p:cm authorId="0" dt="2015-06-01T09:48:16.910000000" idx="2">
    <p:pos x="10" y="106"/>
    <p:text>Je crois que nous avons mal placé ce dia. peut on ajouter méthodologie dans le titre du dia sinon il vient se placer au mielieu des dia méthodologie 1/2, 2/2  sans être titré méth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A4EB-61A8-41B8-B900-C4B2D208A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expérience du DS de Sebba qui est appuyée par Help et avec le soutien de l’Université de Montréal pour les aspects scient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9006-E4D2-4696-BCDA-728105D4C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demande DS Dori de passer au F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Habitudes de prescriptions non changées (nombre moyen de molécules par ordonnance est de 2,5): parce que les contrôles ont été réalisés (médical et financ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6302-BDD0-47F0-A15F-84A615C44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ut : effet immédiat (à l’introduction de l’intervention « FFT ») ET Tendance : effet sur la période (durant la phase étudié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7A7D-23DD-4A44-A71B-0F0B521EC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B3AA-C57A-4029-85F9-281721398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njeux sur le montant forfaitai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e de calcul :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cteur qui limite le risque financier des prestata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9B51-DA5F-43F8-ADB2-6049C9418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C0F8-A5BE-4148-9C61-9B31F26FE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5BE4-4D16-48BA-B2C2-A04DA7F713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tion = équité dans l’accès, filet social (pas de dépenses des ménages en matière de sant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70A3-20E9-42DB-8903-579CBA177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800A-5E88-46C0-B59B-42BA454FB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CAC1-B398-4606-A229-63F9720FD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F32-C03E-4EDD-90F1-076F652D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DF7-48FD-4C81-8AF1-E1D339EE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510-9C2A-412F-938D-2B3DF4BE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CA2-C54D-4D5F-BADA-5CA0021A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724-F8D6-434B-85A2-73069F36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6ED-7835-4637-85BD-66E43A8A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E5E-A39F-4E7F-A123-9F542C90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82B8-A104-4C55-834F-DAFB8318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DBB-6A08-456C-B28E-295BEECF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1F6-50CF-485C-BC41-CB53DD4B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28B-FFF6-49A2-90E7-74A9032C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AC7-EFE1-41AA-ACE4-92002E46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20BF-014F-4612-B8F0-53717DF74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raph%20Enfant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056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’ exemption du paiement des soins au forfait chez les enfants &lt;5ans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S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Atelier technique AMU « Panier de soins, coût et financement »</a:t>
            </a:r>
            <a:br>
              <a:rPr sz="2800"/>
            </a:b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Ouagadougou, les 9 et 10 juin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logoHelpFr"/>
          <p:cNvPicPr/>
          <p:nvPr/>
        </p:nvPicPr>
        <p:blipFill>
          <a:blip r:embed="rId1"/>
          <a:srcRect l="2793" t="1343" r="3911" b="2686"/>
          <a:stretch/>
        </p:blipFill>
        <p:spPr>
          <a:xfrm>
            <a:off x="7620120" y="5410080"/>
            <a:ext cx="115416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1" descr="logo_fr_transp_black"/>
          <p:cNvPicPr/>
          <p:nvPr/>
        </p:nvPicPr>
        <p:blipFill>
          <a:blip r:embed="rId2"/>
          <a:stretch/>
        </p:blipFill>
        <p:spPr>
          <a:xfrm>
            <a:off x="7620120" y="380880"/>
            <a:ext cx="1117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rapeau:Burkina Faso"/>
          <p:cNvPicPr/>
          <p:nvPr/>
        </p:nvPicPr>
        <p:blipFill>
          <a:blip r:embed="rId3"/>
          <a:stretch/>
        </p:blipFill>
        <p:spPr>
          <a:xfrm>
            <a:off x="380880" y="380880"/>
            <a:ext cx="1190880" cy="78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paho\Desktop\Archives_Interim_20150523\RA FFT\Publications\Note Analyse démarche RA\MenP-G\Nvx_Logos_Mai2015\Logo_EQUITE_jpg-RVB_201505.jpg"/>
          <p:cNvPicPr/>
          <p:nvPr/>
        </p:nvPicPr>
        <p:blipFill>
          <a:blip r:embed="rId4"/>
          <a:stretch/>
        </p:blipFill>
        <p:spPr>
          <a:xfrm>
            <a:off x="3352680" y="5410080"/>
            <a:ext cx="2286000" cy="10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armoirie_BF"/>
          <p:cNvPicPr/>
          <p:nvPr/>
        </p:nvPicPr>
        <p:blipFill>
          <a:blip r:embed="rId5"/>
          <a:stretch/>
        </p:blipFill>
        <p:spPr>
          <a:xfrm>
            <a:off x="1136520" y="5297400"/>
            <a:ext cx="83664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90720" y="6313320"/>
            <a:ext cx="11379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NISTERE DE LA SAN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ultats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aisabilité du paiement au forfait est démontr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du FFT pour l’ensemble des PP (adhésion des F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abitudes de prescriptions non chang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importante de la charge administ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des coûts de gestion de la subvention (suppo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tentiel de maitrise des coûts du paiement au F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1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6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0600" y="1314360"/>
            <a:ext cx="8858160" cy="53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00280" y="1314360"/>
            <a:ext cx="7304040" cy="95724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4723920" y="320004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4" name="TextBox 9"/>
          <p:cNvSpPr/>
          <p:nvPr/>
        </p:nvSpPr>
        <p:spPr>
          <a:xfrm>
            <a:off x="4724280" y="2830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10"/>
          <p:cNvCxnSpPr/>
          <p:nvPr/>
        </p:nvCxnSpPr>
        <p:spPr>
          <a:xfrm>
            <a:off x="6019920" y="3200040"/>
            <a:ext cx="25912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96" name="TextBox 11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(avec risque financi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2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7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320" y="1271520"/>
            <a:ext cx="8915400" cy="540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444680" y="1295280"/>
            <a:ext cx="7547040" cy="1014480"/>
          </a:xfrm>
          <a:prstGeom prst="rect">
            <a:avLst/>
          </a:prstGeom>
          <a:ln w="0">
            <a:noFill/>
          </a:ln>
        </p:spPr>
      </p:pic>
      <p:cxnSp>
        <p:nvCxnSpPr>
          <p:cNvPr id="100" name="Straight Arrow Connector 8"/>
          <p:cNvCxnSpPr/>
          <p:nvPr/>
        </p:nvCxnSpPr>
        <p:spPr>
          <a:xfrm>
            <a:off x="6095520" y="311256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TextBox 9"/>
          <p:cNvSpPr/>
          <p:nvPr/>
        </p:nvSpPr>
        <p:spPr>
          <a:xfrm>
            <a:off x="60958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>
            <a:off x="7467120" y="3112560"/>
            <a:ext cx="129636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74674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çons apprise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ation très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Analyse descriptive des CMM (quelque soit le mode de finan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saisonnalité »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ariabilité intra/inter CSPS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différenciés de l’épidémie de rougeole 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ditions de réus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jeux sur le montant forfaitaire (son calcu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tionalité des prescriptions (pratiques des AS et disponibilité des M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’hospitalisations (rationalis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ervance des traitements (≠ revi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dans les dél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 FFT vs REEL au regard de ses a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igueur dans le calcul du montant forfai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ille « raisonnable » des coûts ré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disponibilité, accessibilité et fiabilité des données, 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pless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actualisation du FF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ctivité du contrôle et de la supervis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inclus l’utilisation de ses résulta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er le partenari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s préfinanceme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l’exemption (pour éviter les retards de rembours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 de l’exe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– 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thodologie de mise en œuvre du forf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çons ap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928440"/>
            <a:ext cx="8391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ion du district sanitaire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210 8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publique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: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PS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ensaires isolé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on moyen 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: 12,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remplissant les normes  minimales en personnel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ésentation de l’exe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ébut: septembre 2008, DS de Dori et Seb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emption du paiement des enfants de moins de 5 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uverture améliorée donc taux d’utilisation a augmenté (de 0.6 contact/enfant/an à 3.5) entre 2008 et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aux de mortalité diminué de 17% entre 2008 et 2009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pilation par mois des ordonnances (800 à 1200 par FS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mboursement du coût réel des prestations offertes par les FS sur la base d’une facture adressée au tiers payant via le D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texte - Jus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+++ (…) de la subvention des soin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entualité d’un « passage à l’échelle » (PàE) de la « gratuité des soins » de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PNPS, MS et AM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au réel complexe à l’échelle nationale ; expérimentation du paiement au « forfait (FFT)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ériences des AA/SONU B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1548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ircuit de remboursement et contrô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e 48"/>
          <p:cNvGrpSpPr/>
          <p:nvPr/>
        </p:nvGrpSpPr>
        <p:grpSpPr>
          <a:xfrm>
            <a:off x="380880" y="1295280"/>
            <a:ext cx="8454960" cy="4889160"/>
            <a:chOff x="380880" y="1295280"/>
            <a:chExt cx="8454960" cy="4889160"/>
          </a:xfrm>
        </p:grpSpPr>
        <p:sp>
          <p:nvSpPr>
            <p:cNvPr id="66" name="Rectangle 3"/>
            <p:cNvSpPr/>
            <p:nvPr/>
          </p:nvSpPr>
          <p:spPr>
            <a:xfrm>
              <a:off x="380880" y="1295280"/>
              <a:ext cx="1752480" cy="1265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Help ( tiers pay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6581880" y="1341000"/>
              <a:ext cx="1828800" cy="1279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District sanitai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 ECD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394080" y="4808520"/>
              <a:ext cx="1981080" cy="1295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CSP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prestataire des soin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Connecteur droit avec flèche 7"/>
            <p:cNvCxnSpPr/>
            <p:nvPr/>
          </p:nvCxnSpPr>
          <p:spPr>
            <a:xfrm>
              <a:off x="2441160" y="1736280"/>
              <a:ext cx="3886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Connecteur droit avec flèche 8"/>
            <p:cNvCxnSpPr/>
            <p:nvPr/>
          </p:nvCxnSpPr>
          <p:spPr>
            <a:xfrm flipH="1">
              <a:off x="2459880" y="2449080"/>
              <a:ext cx="3848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Connecteur droit avec flèche 11"/>
            <p:cNvCxnSpPr>
              <a:endCxn id="67" idx="2"/>
            </p:cNvCxnSpPr>
            <p:nvPr/>
          </p:nvCxnSpPr>
          <p:spPr>
            <a:xfrm flipV="1">
              <a:off x="5329080" y="2620440"/>
              <a:ext cx="2167560" cy="243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585000" y="2544120"/>
              <a:ext cx="2809080" cy="2667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ZoneTexte 19"/>
            <p:cNvSpPr/>
            <p:nvPr/>
          </p:nvSpPr>
          <p:spPr>
            <a:xfrm>
              <a:off x="2603160" y="13510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inanc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ZoneTexte 21"/>
            <p:cNvSpPr/>
            <p:nvPr/>
          </p:nvSpPr>
          <p:spPr>
            <a:xfrm rot="2580000">
              <a:off x="419400" y="3892680"/>
              <a:ext cx="27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trat De Pres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ZoneTexte 25"/>
            <p:cNvSpPr/>
            <p:nvPr/>
          </p:nvSpPr>
          <p:spPr>
            <a:xfrm>
              <a:off x="3645000" y="17373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ui Techniq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26"/>
            <p:cNvSpPr/>
            <p:nvPr/>
          </p:nvSpPr>
          <p:spPr>
            <a:xfrm>
              <a:off x="3020040" y="2448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ièces Justificativ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Connecteur droit avec flèche 27"/>
            <p:cNvCxnSpPr/>
            <p:nvPr/>
          </p:nvCxnSpPr>
          <p:spPr>
            <a:xfrm flipH="1">
              <a:off x="5374800" y="2728800"/>
              <a:ext cx="2807280" cy="3207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ZoneTexte 37"/>
            <p:cNvSpPr/>
            <p:nvPr/>
          </p:nvSpPr>
          <p:spPr>
            <a:xfrm rot="18840000">
              <a:off x="5422320" y="39373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ac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ZoneTexte 42"/>
            <p:cNvSpPr/>
            <p:nvPr/>
          </p:nvSpPr>
          <p:spPr>
            <a:xfrm rot="18720000">
              <a:off x="5026680" y="4058280"/>
              <a:ext cx="42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rovisionnement des comptes après contrôle, suivi/ Supervi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ZoneTexte 21"/>
          <p:cNvSpPr/>
          <p:nvPr/>
        </p:nvSpPr>
        <p:spPr>
          <a:xfrm rot="2580000">
            <a:off x="680760" y="350820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rôle conjoint ECD + Hel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arche de la RA/forfa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eliers d’échanges et de réflexion avec les parties prena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lcul du montant forfaitaire : moyenne arrondie des coûts réels de 6 CSPS sur 30 mois (Jan09-Juin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 progressive ( avec et sans risque financier): 2 groupes de C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3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7288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ature de convention entre le tiers payant et les prestataires ( ICP + CO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tabilisation à partir des registres de consultation/ cahiers de vente journa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iement mensuel par le tiers pa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inuation des contrôle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oste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x niveaux CSPS et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contres de sui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mposition du montant forfai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me 16" descr=""/>
          <p:cNvPicPr/>
          <p:nvPr/>
        </p:nvPicPr>
        <p:blipFill>
          <a:blip r:embed="rId1"/>
          <a:stretch/>
        </p:blipFill>
        <p:spPr>
          <a:xfrm>
            <a:off x="212760" y="1127160"/>
            <a:ext cx="8493120" cy="544500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2 3"/>
          <p:cNvSpPr/>
          <p:nvPr/>
        </p:nvSpPr>
        <p:spPr>
          <a:xfrm>
            <a:off x="5791320" y="1219320"/>
            <a:ext cx="3352680" cy="2057400"/>
          </a:xfrm>
          <a:prstGeom prst="irregularSeal2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outes les path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4T22:10:59Z</dcterms:created>
  <dc:creator>paho</dc:creator>
  <dc:description/>
  <dc:language>en-US</dc:language>
  <cp:lastModifiedBy>KABORE</cp:lastModifiedBy>
  <dcterms:modified xsi:type="dcterms:W3CDTF">2015-06-08T18:19:27Z</dcterms:modified>
  <cp:revision>126</cp:revision>
  <dc:subject/>
  <dc:title>PowerPoint Presentation</dc:title>
</cp:coreProperties>
</file>